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B7BCE-4C16-40DF-8729-EB1C1300C4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776916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040" y="3735360"/>
            <a:ext cx="776916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637AB-CB05-4A16-9145-09AC8CF951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379116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5280" y="1066320"/>
            <a:ext cx="379116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3735360"/>
            <a:ext cx="379116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5280" y="3735360"/>
            <a:ext cx="379116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B8A21-BE6A-40BC-B67A-3662E0842B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250128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0600" y="1066320"/>
            <a:ext cx="250128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67520" y="1066320"/>
            <a:ext cx="250128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040" y="3735360"/>
            <a:ext cx="250128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0600" y="3735360"/>
            <a:ext cx="250128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67520" y="3735360"/>
            <a:ext cx="250128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27011-E1AD-4D05-8037-0D9C3D8C89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14040" y="1066320"/>
            <a:ext cx="776916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776916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379116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95280" y="1066320"/>
            <a:ext cx="379116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b7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144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379116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95280" y="1066320"/>
            <a:ext cx="379116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14040" y="3735360"/>
            <a:ext cx="379116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040" y="1066320"/>
            <a:ext cx="776916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DD04E-BDF4-4090-8C2A-4BEFEFE961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379116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95280" y="1066320"/>
            <a:ext cx="379116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95280" y="3735360"/>
            <a:ext cx="379116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379116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5280" y="1066320"/>
            <a:ext cx="379116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040" y="3735360"/>
            <a:ext cx="776916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776916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14040" y="3735360"/>
            <a:ext cx="776916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379116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5280" y="1066320"/>
            <a:ext cx="379116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040" y="3735360"/>
            <a:ext cx="379116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95280" y="3735360"/>
            <a:ext cx="379116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250128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40600" y="1066320"/>
            <a:ext cx="250128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67520" y="1066320"/>
            <a:ext cx="250128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14040" y="3735360"/>
            <a:ext cx="250128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40600" y="3735360"/>
            <a:ext cx="250128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67520" y="3735360"/>
            <a:ext cx="250128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776916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B0CED-83D2-41F2-B6DA-9F643BEFAD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379116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5280" y="1066320"/>
            <a:ext cx="379116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3E491-36E1-48E7-85CC-3648EC3947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B21C1-25C9-4476-982E-E03A0ECE8C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59BCD-551C-430C-9D2D-D5A221BAC9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379116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5280" y="1066320"/>
            <a:ext cx="379116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040" y="3735360"/>
            <a:ext cx="379116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9EBF5-F72F-4181-80FD-A0F4EA70C1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379116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5280" y="1066320"/>
            <a:ext cx="379116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5280" y="3735360"/>
            <a:ext cx="379116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96769-7DFD-4078-B600-8AC920046F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379116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5280" y="1066320"/>
            <a:ext cx="379116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040" y="3735360"/>
            <a:ext cx="776916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28E02-17B2-4085-814E-B637BF171D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PPT_ContentPage"/>
          <p:cNvPicPr/>
          <p:nvPr/>
        </p:nvPicPr>
        <p:blipFill>
          <a:blip r:embed="rId2"/>
          <a:srcRect l="0" t="0" r="93319" b="0"/>
          <a:stretch/>
        </p:blipFill>
        <p:spPr>
          <a:xfrm>
            <a:off x="-1440" y="-1440"/>
            <a:ext cx="61092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tfx-corp-clr-150"/>
          <p:cNvPicPr/>
          <p:nvPr/>
        </p:nvPicPr>
        <p:blipFill>
          <a:blip r:embed="rId3"/>
          <a:stretch/>
        </p:blipFill>
        <p:spPr>
          <a:xfrm>
            <a:off x="7543800" y="6400800"/>
            <a:ext cx="1219320" cy="184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b7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040" y="1066320"/>
            <a:ext cx="776916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b79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  <a:p>
            <a:pPr lvl="1" marL="343080" indent="-3430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b79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  <a:p>
            <a:pPr lvl="2" marL="343080" indent="-343080"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b79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  <a:p>
            <a:pPr lvl="3" marL="343080" indent="-3430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b79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  <a:p>
            <a:pPr lvl="4" marL="343080" indent="-343080">
              <a:spcBef>
                <a:spcPts val="2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b79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  <a:p>
            <a:pPr lvl="5" marL="343080" indent="-343080">
              <a:spcBef>
                <a:spcPts val="2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b79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  <a:p>
            <a:pPr lvl="6" marL="343080" indent="-343080">
              <a:spcBef>
                <a:spcPts val="2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b79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6320" y="6477120"/>
            <a:ext cx="21333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3b7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75E6-6F4D-4130-9991-3061EC47D097}" type="slidenum">
              <a:rPr b="1" lang="en-US" sz="1000" spc="-1" strike="noStrike">
                <a:solidFill>
                  <a:srgbClr val="003b7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4" descr="PPT_Cover"/>
          <p:cNvPicPr/>
          <p:nvPr/>
        </p:nvPicPr>
        <p:blipFill>
          <a:blip r:embed="rId2"/>
          <a:srcRect l="0" t="0" r="0" b="10021"/>
          <a:stretch/>
        </p:blipFill>
        <p:spPr>
          <a:xfrm>
            <a:off x="0" y="0"/>
            <a:ext cx="9145440" cy="61722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1" descr="tfx-corp-clr-150"/>
          <p:cNvPicPr/>
          <p:nvPr/>
        </p:nvPicPr>
        <p:blipFill>
          <a:blip r:embed="rId3"/>
          <a:stretch/>
        </p:blipFill>
        <p:spPr>
          <a:xfrm>
            <a:off x="7543800" y="6400800"/>
            <a:ext cx="1219320" cy="184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b7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14040" y="1066320"/>
            <a:ext cx="776916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b79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  <a:p>
            <a:pPr lvl="1" marL="343080" indent="-3430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b79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  <a:p>
            <a:pPr lvl="2" marL="343080" indent="-343080"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b79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  <a:p>
            <a:pPr lvl="3" marL="343080" indent="-3430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b79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  <a:p>
            <a:pPr lvl="4" marL="343080" indent="-343080">
              <a:spcBef>
                <a:spcPts val="2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b79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  <a:p>
            <a:pPr lvl="5" marL="343080" indent="-343080">
              <a:spcBef>
                <a:spcPts val="2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b79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  <a:p>
            <a:pPr lvl="6" marL="343080" indent="-343080">
              <a:spcBef>
                <a:spcPts val="2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b79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b79"/>
                </a:solidFill>
                <a:latin typeface="Arial"/>
              </a:rPr>
              <a:t>We like the dynamics of the water – our competitor`s product</a:t>
            </a:r>
            <a:endParaRPr b="1" lang="en-US" sz="24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76320" y="6477120"/>
            <a:ext cx="2133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0A5B-C01B-4368-AA24-B800A9077B41}" type="slidenum">
              <a:rPr b="1" lang="en-US" sz="1000" spc="-1" strike="noStrike">
                <a:solidFill>
                  <a:srgbClr val="003b7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3203640" y="765000"/>
            <a:ext cx="5294160" cy="2748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611280" y="1143000"/>
            <a:ext cx="2340000" cy="32353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Users\JRange\Pictures\6713833-spritzendes-wasser.jpg"/>
          <p:cNvPicPr/>
          <p:nvPr/>
        </p:nvPicPr>
        <p:blipFill>
          <a:blip r:embed="rId3"/>
          <a:stretch/>
        </p:blipFill>
        <p:spPr>
          <a:xfrm>
            <a:off x="3686040" y="3638520"/>
            <a:ext cx="16956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b79"/>
                </a:solidFill>
                <a:latin typeface="Arial"/>
              </a:rPr>
              <a:t>The drop is a no-go, looks boring – no dynamics</a:t>
            </a:r>
            <a:endParaRPr b="1" lang="en-US" sz="24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76320" y="6477120"/>
            <a:ext cx="2133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3A638-4C2F-44F5-A156-654D4DDA702E}" type="slidenum">
              <a:rPr b="1" lang="en-US" sz="1000" spc="-1" strike="noStrike">
                <a:solidFill>
                  <a:srgbClr val="003b7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C:\Users\JRange\Pictures\GPSMirage_BG_2012-1279 (2).jpg"/>
          <p:cNvPicPr/>
          <p:nvPr/>
        </p:nvPicPr>
        <p:blipFill>
          <a:blip r:embed="rId1"/>
          <a:stretch/>
        </p:blipFill>
        <p:spPr>
          <a:xfrm>
            <a:off x="684360" y="1268280"/>
            <a:ext cx="6503760" cy="5029200"/>
          </a:xfrm>
          <a:prstGeom prst="rect">
            <a:avLst/>
          </a:prstGeom>
          <a:ln w="0">
            <a:noFill/>
          </a:ln>
        </p:spPr>
      </p:pic>
      <p:sp>
        <p:nvSpPr>
          <p:cNvPr id="89" name="Down Arrow 4"/>
          <p:cNvSpPr/>
          <p:nvPr/>
        </p:nvSpPr>
        <p:spPr>
          <a:xfrm>
            <a:off x="5580000" y="1052640"/>
            <a:ext cx="144360" cy="1439640"/>
          </a:xfrm>
          <a:prstGeom prst="downArrow">
            <a:avLst>
              <a:gd name="adj1" fmla="val 50000"/>
              <a:gd name="adj2" fmla="val 49863"/>
            </a:avLst>
          </a:prstGeom>
          <a:solidFill>
            <a:srgbClr val="bfced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b79"/>
                </a:solidFill>
                <a:latin typeface="Arial"/>
              </a:rPr>
              <a:t>Our logos</a:t>
            </a:r>
            <a:endParaRPr b="1" lang="en-US" sz="24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76320" y="6477120"/>
            <a:ext cx="2133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9FFA5-266F-4AE5-ADA5-60768543E3D7}" type="slidenum">
              <a:rPr b="1" lang="en-US" sz="1000" spc="-1" strike="noStrike">
                <a:solidFill>
                  <a:srgbClr val="003b7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4668840" y="1484280"/>
            <a:ext cx="3933720" cy="1143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684360" y="1341360"/>
            <a:ext cx="3962160" cy="933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3"/>
          <a:stretch/>
        </p:blipFill>
        <p:spPr>
          <a:xfrm>
            <a:off x="3200400" y="3224160"/>
            <a:ext cx="2743200" cy="4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b79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14040" y="1066680"/>
            <a:ext cx="7924680" cy="5029200"/>
          </a:xfrm>
          <a:prstGeom prst="rect">
            <a:avLst/>
          </a:prstGeom>
          <a:ln w="0">
            <a:noFill/>
          </a:ln>
        </p:spPr>
      </p:pic>
      <p:sp>
        <p:nvSpPr>
          <p:cNvPr id="97" name="Slide Number Placeholder 3"/>
          <p:cNvSpPr/>
          <p:nvPr/>
        </p:nvSpPr>
        <p:spPr>
          <a:xfrm>
            <a:off x="76320" y="6477120"/>
            <a:ext cx="2133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4BD8B-30D5-425A-BB1D-D64A97D0D2CB}" type="slidenum">
              <a:rPr b="1" lang="en-US" sz="1000" spc="-1" strike="noStrike">
                <a:solidFill>
                  <a:srgbClr val="003b7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611280" y="1341360"/>
            <a:ext cx="8316720" cy="27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b79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040" y="1066680"/>
            <a:ext cx="7924680" cy="5029200"/>
          </a:xfrm>
          <a:prstGeom prst="rect">
            <a:avLst/>
          </a:prstGeom>
          <a:ln w="0">
            <a:noFill/>
          </a:ln>
        </p:spPr>
      </p:pic>
      <p:sp>
        <p:nvSpPr>
          <p:cNvPr id="101" name="Slide Number Placeholder 3"/>
          <p:cNvSpPr/>
          <p:nvPr/>
        </p:nvSpPr>
        <p:spPr>
          <a:xfrm>
            <a:off x="76320" y="6477120"/>
            <a:ext cx="2133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D65F9-5FDF-41D5-8F2D-9BC59CB5B4FC}" type="slidenum">
              <a:rPr b="1" lang="en-US" sz="1000" spc="-1" strike="noStrike">
                <a:solidFill>
                  <a:srgbClr val="003b7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1681200" y="1019160"/>
            <a:ext cx="578160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b79"/>
                </a:solidFill>
                <a:latin typeface="Arial"/>
              </a:rPr>
              <a:t>Examples – boring </a:t>
            </a:r>
            <a:r>
              <a:rPr b="1" lang="en-US" sz="2400" spc="-1" strike="noStrike">
                <a:solidFill>
                  <a:srgbClr val="003b79"/>
                </a:solidFill>
                <a:latin typeface="Wingdings"/>
                <a:ea typeface="Wingdings"/>
              </a:rPr>
              <a:t></a:t>
            </a:r>
            <a:endParaRPr b="1" lang="en-US" sz="2400" spc="-1" strike="noStrike">
              <a:solidFill>
                <a:srgbClr val="003b79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14040" y="1066680"/>
            <a:ext cx="7924680" cy="5029200"/>
          </a:xfrm>
          <a:prstGeom prst="rect">
            <a:avLst/>
          </a:prstGeom>
          <a:ln w="0">
            <a:noFill/>
          </a:ln>
        </p:spPr>
      </p:pic>
      <p:sp>
        <p:nvSpPr>
          <p:cNvPr id="105" name="Slide Number Placeholder 3"/>
          <p:cNvSpPr/>
          <p:nvPr/>
        </p:nvSpPr>
        <p:spPr>
          <a:xfrm>
            <a:off x="76320" y="6477120"/>
            <a:ext cx="2133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1AE9F-D0E6-4A0D-A191-D7ADF4424B14}" type="slidenum">
              <a:rPr b="1" lang="en-US" sz="1000" spc="-1" strike="noStrike">
                <a:solidFill>
                  <a:srgbClr val="003b7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>
            <a:off x="1614600" y="1019160"/>
            <a:ext cx="591480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0T07:13:10Z</dcterms:created>
  <dc:creator>Range, Jan</dc:creator>
  <dc:description/>
  <dc:language>en-US</dc:language>
  <cp:lastModifiedBy>Range, Jan</cp:lastModifiedBy>
  <dcterms:modified xsi:type="dcterms:W3CDTF">2013-05-20T07:31:40Z</dcterms:modified>
  <cp:revision>2</cp:revision>
  <dc:subject/>
  <dc:title>PowerPoint Presentation</dc:title>
</cp:coreProperties>
</file>